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DB88B-AEDB-43E5-89F7-D62F7D131CA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849B2-4266-4B5D-B761-FAD5AB7EA884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6BC17-01D6-48D9-B20D-DD3EFDE028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28968-7350-4BFC-B743-F6C136CBF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B3CC3-DD85-4295-A5E0-93B1A73F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A3F64-8F7D-4D91-B883-40C9CAF05C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ADBEF-20C0-4387-9096-289B2F645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1690C-756B-4C10-9422-95727A61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1A896-CF12-4D84-9E36-DFBCC23D5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069AF-6225-4FCE-8F1E-92789A56D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EE575-B132-4282-BC72-DEC95DF79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5B09E-50E4-45D0-88EE-BE35BF273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90F95-BF49-47B8-A805-F4E6CFA3B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A230F-4482-4AA8-9DA9-63F2CDA0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2380F-020D-4CDB-8C84-55FB72F1708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820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六章  围术期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与疾病相关的辅助检查，并完善常规术前检查的结果，例如血、尿、粪便常规，凝血功能，血型及交叉配血试验，血液生化，心电图检查，影像学检查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资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、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恐惧手术、担忧手术风险、经济负担较重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的需要量） 与禁食或摄入不足、机体消耗增加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与手术、麻醉、术前准备等有关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环境与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完善术前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适应性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准备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控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清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留置胃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血和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皮肤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日晨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血管疾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血压者应继续服用降压药物，避免戒断综合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压过高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80/100mmHg)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应选用适合的降压药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律失常者给予抗心律失常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心肌梗塞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内不宜择期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力衰竭者最好在心力衰竭控制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后再进行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吸烟者，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停止吸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鼓励患者进行呼吸训练，可以减少肺部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阻塞性肺功能不全及哮喘，应及时用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痰液黏稠者，行雾化吸入或服用药物稀释痰液，利于咳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急性呼吸道感染者，择期手术应推迟到治愈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重度肺功能不全合并感染者，采取综合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疾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糖尿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围术期护理概念、手术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说出各种常见手术区皮肤准备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手术室的分区、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出术后常见不适及并发症的预防和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与环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位置和布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位置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布局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洁净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准洁净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建筑要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与环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间装备与设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间内只放置必需用物且位置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手术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空气净化技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手术室的净化标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手术室适用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与环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环境管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管理制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洁与消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物品消毒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布类用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布单类均采用高压蒸气灭菌，保存时间夏季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冬季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过期要重新灭菌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敷料类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物品消毒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器械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基本器械，采用高压蒸气灭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精密仪器首选环氧乙烷灭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缝针及缝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常用的缝针及缝线多在出厂时已分别包装并灭菌，术中直接使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物品消毒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状引流管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胶片引流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纱布引流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核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体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仰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侧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截石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俯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皮肤消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毒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伏纱块涂擦手术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过敏者可选用其他皮肤消毒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毒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切口为中心向四周涂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区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为肛门、会阴部手术或感染切口，则自手术区外周向感染切口、会阴或肛门处涂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铺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铺皮肤巾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块无菌巾遮盖切口周围，又称切口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铺手术中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块无菌中单分别铺在切口的上、下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铺手术洞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臂的刷洗和消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手消毒是指手术人员通过机械性洗刷及化学消毒方法，去除并杀灭双手及前臂的暂居菌和部分常驻菌，达到消毒皮肤目的，通常也称为外科洗手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肥皂水刷手法和外科手消毒揉搓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括手术前患者生理方面的一般常规准备和特殊准备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巡回护士和器械护士的职责要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括手术后患者一般护理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手术前期、中期和后期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对开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衣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3641760" y="2205000"/>
            <a:ext cx="54864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遮盖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衣穿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3876840" y="2133720"/>
            <a:ext cx="52671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1619280" y="3068640"/>
            <a:ext cx="71038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1763640" y="3068640"/>
            <a:ext cx="58593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手术衣及手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手术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由他人协助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行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手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戴手套的手抓取另一手的手套外面，翻转脱下；用已脱手套的拇指伸入另一手套的里面，翻转脱下。注意保护清洁的手不被手套外面污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6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今天早晨，该患者被推入手术室，在全身麻醉下接受肝癌切除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在手术过程中，巡回护士和器械护士分别要承担哪些职责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护士主要岗位与配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器械护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提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洗手、穿手术衣和戴无菌手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正确传递用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护器械和用物整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配合抢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标本管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包扎和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护士主要岗位与配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巡回护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访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物品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核对患者信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配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中无菌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明确无菌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物品无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皮肤切口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准确传递物品和调换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污染手术的隔离技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空气污染、保持洁净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无菌器械台的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巡回护士用手打开第一层包布（双层），注意只能接触包布的外面，从里向外展开，手臂不可跨越无菌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无菌持物钳打开第二层包布，先对侧后近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器械护士穿好无菌手术衣和戴好无菌手套后，用手打开第三层包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 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perioperative period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患者从确定手术治疗时起，到与这次手术有关的治疗基本结束的这段时期。包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阶段：手术前期、手术期、手术后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6-1C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的手术顺利完成，安返病房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回到病房后，主要护理内容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术后恢复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手术创伤、切口疼痛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术中出血、失液或术后禁食、呕吐、引流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手术后患者卧床、活动量减少、疼痛、呼吸运动受限和使用镇静剂等因素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与术后禁食、分解代谢旺盛及摄入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术后出血、感染、深静脉血栓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交接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腹部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先进流质，后逐步过渡到半流质、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手术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手术后一般禁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待肠蠕动恢复、肛门排气后开始进水，逐步过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的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甲级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乙级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丙级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拆除缝线时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头、面、颈部手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下腹部、会阴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、上腹部、背部、臀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四肢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（近关节处可适当延长），减张缝线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，必要时可间隔拆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引流液颜色、性质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引流管通畅，无打折、扭曲、堵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熟悉各种引流管的拔管指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 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护理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perioperative nursing ca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在围术期为患者提供全程、整体的护理。其目的是加强术前、术后整个治疗过程中患者的身心护理，通过充分的术前准备、有效的护理措施和患者的积极配合，达到满意的治疗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病房安静，保证患者休息和充足的睡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许可下尽量鼓励患者早期下床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患者的病情和耐受程度，鼓励其早期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给予镇静、止痛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患者更换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表达内心焦虑情绪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正确按摩、放松、听音乐等非药物止痛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呕吐时间及呕吐物的量、颜色、性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取合适体位，头偏向一侧，防止发生吸入性肺炎或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镇静、镇吐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患者最常见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手术热（吸收热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多翻身、尽早下床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必要时肌注新斯的明促进肠蠕动恢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警惕机械性肠梗阻等并发症出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呃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迫眶上缘、抽吸胃内积气和积液、遵医嘱给予镇静或解痉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顽固性呃逆应警惕吻合口或十二指肠残端漏、膈下积液或感染的可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潴留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诱导排尿，如听流水声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改变体位坐于床边或站立排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应用药物、针灸等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如上述措施均无效时，在无菌操作下实施导尿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发生在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切口敷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密观察生命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患者有无烦躁、心率增快、血压下降、尿量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控制血糖水平、纠正贫血、加强营养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缝合时彻底止血、防止残留血块、异物或无效腔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操作及术后换药时严格执行无菌操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切口感染者，勤换敷料、微波照射切口、合理使用抗生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裂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前加强营养支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缝合用减张缝线，术后延长拆线时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在麻醉效果好、腹壁松弛下缝合切口避免强行缝合导致腹膜等组织撕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切口外适当用腹带或胸带包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及时处理引起腹内压增高的因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切口情况，预防切口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切口完全裂开者，安慰患者做好心理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 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类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姑息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时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择期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限期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症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部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戒烟，行有效咳嗽及深呼吸锻炼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手术拔管前吸净支气管内分泌物，术后平卧头偏向一侧，防呕吐物和口腔分泌物误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、腹带包扎或固定时，松紧适宜避免限制呼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病室适宜温、湿度，鼓励患者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鼓励患者深呼吸、吹气球或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咳嗽无力或害怕用力咳嗽者，在胸骨切迹上方用手指按压刺激气管，促进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路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训练床上排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指导患者尽量自主排尿和病情许可时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尽早拔出留置导尿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和及时处理尿潴留是预防尿路感染的主要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尿路感染者，鼓励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深静脉血栓形成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eep venous thrombos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V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许可下，鼓励患者早期下床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危患者，下肢用弹性绷带或穿弹力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避免久坐和跷二郎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使用高渗性或刺激性强的药物应稀释后输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液高凝状态者，给予抗凝药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发生深静脉血栓者，患肢制动、抬高、禁止按摩、遵医嘱行溶栓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恢复期患者摄入合理均衡的饮食，避免生硬及辛辣刺激性食物休息与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指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需继续治疗者，指导患者遵医嘱正确服药，定期复查肝肾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证充足睡眠，活动量应从小到大、循序渐进，根据自身体质及术后恢复情况来制订活动计划，不易过度疲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就诊和随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患者于手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到门诊随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，了解机体的康复程度及切口愈合情况。出现特殊情况时，及时到医院就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护理包括术前护理、术中护理和术后护理。手术分为择期手术、限期手术、急诊手术三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前期患者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对手术前患者应做好①心理护理；②一般准备，如饮食与营养、环境与休息、协助完善术前检查、术前适应性训练、呼吸道准备、胃肠道准备、输血和补液、预防感染、手术区皮肤准备、术日晨护理等；③特殊准备，主要针对合并糖尿病、高血压等特殊情况患者进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中期患者的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的布局、设置、分区（非洁净区、准洁净区、洁净区）都有严格要求。手术人员必须遵守手术室的管理和消毒灭菌制度。患者的手术体位由手术部位所决定，术前应严格做好手术区皮肤消毒和手术区铺单。参加手术人员必须遵循外科手消毒、穿脱无菌手术衣、戴无菌手套和脱手套的方法要求。术前要严格认真核对患者各项信息，避免错误发生。手术室器械护士和巡回护士做好手术配合，遵循术中无菌操作原则，认真清点手术器械，确保手术顺利完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后期患者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包括：①一般护理：交接患者、安置体位、病情观察、饮食与营养、切口护理、引流管护理、活动、心理护理；②术后常见不适的观察和护理，如切口疼痛、恶心呕吐、发热、腹胀、呃逆、尿潴留等的护理；③术后并发症的观察和护理，如出血、切口感染、切口裂开、肺部感染、尿路感染、深静脉血栓形成等的预防和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6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右上腹持续性胀痛不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入院。自述患糖尿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服药控制血糖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肝右肋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触及，质硬，边界不清，肝区叩击痛明显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：肝右后叶回声不均匀增强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常规：白细胞、红细胞和血小板均减少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被明确诊断为肝癌，拟在全麻下行肝癌切除术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①该患者手术前护理评估内容有哪些？②术前护理的重点内容是什么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所患疾病的临床表现，进行全面的体格检查，了解有无心血管系统、呼吸系统、消化系统或泌尿系统等重要系统功能异常的表现，以判断所患疾病的严重程度和患者对手术的耐受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36:05Z</dcterms:modified>
  <cp:revision>99</cp:revision>
  <dc:subject/>
  <dc:title>内科护理学</dc:title>
</cp:coreProperties>
</file>